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B71-A583-45D5-AD64-9DA66AB8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41E-3538-49C3-889C-48C2C063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E51-8731-42B1-8D94-39DA89FC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85A-506A-4C63-925F-9DAC84E8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D4432-DEE2-463A-BA63-39925ED9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624F3-A36C-421F-86C6-92D70B1F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CCDFF-E0A4-4A77-9A11-F999AF8C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8F381-D595-4CC0-856E-F4958DE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B5407-4BF8-4671-8BEF-FB6DC570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2604-1C24-4BFE-ABD3-0317A04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968A-E386-4B30-8EC6-4F5A3983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9AF-590A-441E-8BEB-C4842DD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5262B-00DE-469E-B258-B4D0EBD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F883D-7C08-4FDF-8AF9-0C206D2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EDED-D8D2-4F30-BDD0-664C2F57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8E277-4A20-40B8-B1A0-A887C036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CD158-953C-45F8-B09A-F3FABA46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C4A-8C43-4CA9-A419-4EEF0BE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806-D578-445E-A8F4-C72E6DD1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5A5-44FA-4290-BB33-027ACBBB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A72-25CD-469F-92DA-D49E8871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993-C741-4177-8E98-6FFBEFD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70F-7FAD-4096-8BBA-5804424F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C70-E053-4A66-BD26-B181CD0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58C5-4514-40F3-9482-712AE134A9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532-D19B-455A-9111-B98536F644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utah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/utah/" TargetMode="External"/><Relationship Id="rId4" Type="http://schemas.openxmlformats.org/officeDocument/2006/relationships/hyperlink" Target="http://www.enchantedlearning.com/usa/flags/utah/utahflag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utah/" TargetMode="External"/><Relationship Id="rId7" Type="http://schemas.openxmlformats.org/officeDocument/2006/relationships/hyperlink" Target="http://www.enchantedlearning.com/usa/states/utah/" TargetMode="External"/><Relationship Id="rId8" Type="http://schemas.openxmlformats.org/officeDocument/2006/relationships/hyperlink" Target="http://www.enchantedlearning.com/usa/states/utah/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24480" y="4800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7242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ly Pap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7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00200" y="2209680"/>
            <a:ext cx="5105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ta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493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152280"/>
            <a:ext cx="4647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Song: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ennsylva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: Salt Lak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 2,469,5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the Union: January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1896 (4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o: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name: The Beehi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Sego L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: Common American G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: Utah, This is th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of Name: From the Ute Indians, meaning “People of the Mountai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19320"/>
            <a:ext cx="3124440" cy="3429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3600" y="4952880"/>
            <a:ext cx="32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18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nchantedlearning.com/usa/states/utah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685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tate map of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447920"/>
            <a:ext cx="2619360" cy="193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50532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th, 2011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www.enchantedlearning.com/usa/states/utah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Utah’s state f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0" b="8181"/>
          <a:stretch/>
        </p:blipFill>
        <p:spPr>
          <a:xfrm>
            <a:off x="762120" y="1676520"/>
            <a:ext cx="2514600" cy="20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733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80988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th, 2011, http://www.enchantedlearning.com/usa/states/utah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09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Utah’s state bird, the Common American Gu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Utah: Map and State Flag"/>
          <p:cNvPicPr/>
          <p:nvPr/>
        </p:nvPicPr>
        <p:blipFill>
          <a:blip r:embed="rId2"/>
          <a:srcRect l="0" t="34555" r="-1339" b="0"/>
          <a:stretch/>
        </p:blipFill>
        <p:spPr>
          <a:xfrm>
            <a:off x="5715000" y="2209680"/>
            <a:ext cx="213372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45720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ensguide.gpo.gov/3-5/state/uta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334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outline of the state of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All images Copyright © 1997 - 2000 WriteLine. All Rights Reserved. Temple Square"/>
          <p:cNvPicPr/>
          <p:nvPr/>
        </p:nvPicPr>
        <p:blipFill>
          <a:blip r:embed="rId1"/>
          <a:stretch/>
        </p:blipFill>
        <p:spPr>
          <a:xfrm>
            <a:off x="2438280" y="304920"/>
            <a:ext cx="6248520" cy="416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 rot="10800000">
            <a:off x="303120" y="1218600"/>
            <a:ext cx="244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Mor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e in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64832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A. Postcard Tou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mple Squ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http://www.postcardsfrom.com/t1/98110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All images Copyright © 1997 - 2000 WriteLine. All Rights Reserved. Turret Arch"/>
          <p:cNvPicPr/>
          <p:nvPr/>
        </p:nvPicPr>
        <p:blipFill>
          <a:blip r:embed="rId1"/>
          <a:stretch/>
        </p:blipFill>
        <p:spPr>
          <a:xfrm>
            <a:off x="4038480" y="609480"/>
            <a:ext cx="5105520" cy="340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137160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A. Postcard Tou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ches National Pa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http://www.postcardsfrom.com/t1/98111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Arches National Park in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All images Copyright © 1997 - 2000 WriteLine. All Rights Reserved. Utah capitol"/>
          <p:cNvPicPr/>
          <p:nvPr/>
        </p:nvPicPr>
        <p:blipFill>
          <a:blip r:embed="rId1"/>
          <a:stretch/>
        </p:blipFill>
        <p:spPr>
          <a:xfrm>
            <a:off x="304920" y="99072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44197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Utah’s State Capitol building, located in Salt Lake 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572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286000"/>
            <a:ext cx="3886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A. Postcard Tou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lt Lake City 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http://www.postcardsfrom.com/t1/98111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2Z</dcterms:created>
  <dc:creator>install</dc:creator>
  <dc:description/>
  <dc:language>en-US</dc:language>
  <cp:lastModifiedBy>install</cp:lastModifiedBy>
  <dcterms:modified xsi:type="dcterms:W3CDTF">2011-10-27T13:39:09Z</dcterms:modified>
  <cp:revision>10</cp:revision>
  <dc:subject/>
  <dc:title>Slide 1</dc:title>
</cp:coreProperties>
</file>